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11984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DEAFFF69-B3BF-4872-A368-F8EDE29BD0D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08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11840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08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Executive Strategy Seminar - Module 1 - </a:t>
            </a:r>
            <a:fld id="{B782D760-8CDD-4C18-AF81-E3154C2D44C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s://creativecommons.org/licenses/by/4.0/" TargetMode="External"/><Relationship Id="rId4" Type="http://schemas.openxmlformats.org/officeDocument/2006/relationships/image" Target="../media/image3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3"/>
          <p:cNvSpPr/>
          <p:nvPr/>
        </p:nvSpPr>
        <p:spPr>
          <a:xfrm>
            <a:off x="966960" y="1893960"/>
            <a:ext cx="7751520" cy="16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200" spc="-1" strike="noStrike">
                <a:solidFill>
                  <a:srgbClr val="39536b"/>
                </a:solidFill>
                <a:latin typeface="Arial Narrow"/>
              </a:rPr>
              <a:t>TSP Executive Strategy Seminar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TSPm Multi-Team Process </a:t>
            </a:r>
            <a:endParaRPr b="0" lang="en-US" sz="45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01400" y="1081080"/>
            <a:ext cx="8319960" cy="5014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000" spc="-1" strike="noStrike">
              <a:solidFill>
                <a:srgbClr val="39536b"/>
              </a:solidFill>
              <a:latin typeface="Arial"/>
              <a:ea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4" name="Picture 4" descr="Creative Commons Lic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Large-Scale Distributed Teamwork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s of large-scale development work are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common goals a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d maintain cross-team intera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tivate team-level decision ma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multi-team distributed process is designed to accomplish these objecti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m process is for teams of up to about 150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teams need some custom-designed processes which can be develop on an as-needed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Unit Teams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720" y="1709640"/>
            <a:ext cx="76104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800" spc="-1" strike="noStrike">
                <a:solidFill>
                  <a:srgbClr val="39536b"/>
                </a:solidFill>
                <a:latin typeface="Arial"/>
              </a:rPr>
              <a:t>All the members are in a single group.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3 to ~20 member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ingle leader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flat hierarchy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multiple interdependencie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lose member interac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6740640" y="2825640"/>
            <a:ext cx="1218960" cy="1766880"/>
            <a:chOff x="6740640" y="2825640"/>
            <a:chExt cx="1218960" cy="1766880"/>
          </a:xfrm>
        </p:grpSpPr>
        <p:sp>
          <p:nvSpPr>
            <p:cNvPr id="101" name="Rectangle 4"/>
            <p:cNvSpPr/>
            <p:nvPr/>
          </p:nvSpPr>
          <p:spPr>
            <a:xfrm>
              <a:off x="6740640" y="2825640"/>
              <a:ext cx="121896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2" name="Oval 5"/>
            <p:cNvSpPr/>
            <p:nvPr/>
          </p:nvSpPr>
          <p:spPr>
            <a:xfrm>
              <a:off x="6807240" y="377820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3" name="Oval 6"/>
            <p:cNvSpPr/>
            <p:nvPr/>
          </p:nvSpPr>
          <p:spPr>
            <a:xfrm>
              <a:off x="6943680" y="3913200"/>
              <a:ext cx="338040" cy="2728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4" name="Oval 7"/>
            <p:cNvSpPr/>
            <p:nvPr/>
          </p:nvSpPr>
          <p:spPr>
            <a:xfrm>
              <a:off x="7078680" y="404964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5" name="Oval 8"/>
            <p:cNvSpPr/>
            <p:nvPr/>
          </p:nvSpPr>
          <p:spPr>
            <a:xfrm>
              <a:off x="7213680" y="418608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6" name="Oval 9"/>
            <p:cNvSpPr/>
            <p:nvPr/>
          </p:nvSpPr>
          <p:spPr>
            <a:xfrm>
              <a:off x="7350120" y="432108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7" name="Line 10"/>
            <p:cNvSpPr/>
            <p:nvPr/>
          </p:nvSpPr>
          <p:spPr>
            <a:xfrm flipH="1">
              <a:off x="7078680" y="3504960"/>
              <a:ext cx="271440" cy="272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8" name="Line 11"/>
            <p:cNvSpPr/>
            <p:nvPr/>
          </p:nvSpPr>
          <p:spPr>
            <a:xfrm flipH="1">
              <a:off x="7213320" y="3504960"/>
              <a:ext cx="136440" cy="407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09" name="Line 12"/>
            <p:cNvSpPr/>
            <p:nvPr/>
          </p:nvSpPr>
          <p:spPr>
            <a:xfrm>
              <a:off x="7350120" y="3504960"/>
              <a:ext cx="0" cy="61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0" name="Line 13"/>
            <p:cNvSpPr/>
            <p:nvPr/>
          </p:nvSpPr>
          <p:spPr>
            <a:xfrm>
              <a:off x="7350120" y="3504960"/>
              <a:ext cx="13464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1" name="Line 14"/>
            <p:cNvSpPr/>
            <p:nvPr/>
          </p:nvSpPr>
          <p:spPr>
            <a:xfrm>
              <a:off x="7350120" y="3504960"/>
              <a:ext cx="269640" cy="8841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Large Teams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 teams usually have multiple unit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5 to 100+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gle project manag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ltiple team lead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ee-like hierarch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ttle cross-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a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14" name="Group 3"/>
          <p:cNvGrpSpPr/>
          <p:nvPr/>
        </p:nvGrpSpPr>
        <p:grpSpPr>
          <a:xfrm>
            <a:off x="4103640" y="2604960"/>
            <a:ext cx="3997440" cy="3194280"/>
            <a:chOff x="4103640" y="2604960"/>
            <a:chExt cx="3997440" cy="3194280"/>
          </a:xfrm>
        </p:grpSpPr>
        <p:sp>
          <p:nvSpPr>
            <p:cNvPr id="115" name="Rectangle 4"/>
            <p:cNvSpPr/>
            <p:nvPr/>
          </p:nvSpPr>
          <p:spPr>
            <a:xfrm>
              <a:off x="5526000" y="2604960"/>
              <a:ext cx="121932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Project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Manag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6" name="Rectangle 5"/>
            <p:cNvSpPr/>
            <p:nvPr/>
          </p:nvSpPr>
          <p:spPr>
            <a:xfrm>
              <a:off x="4103640" y="4032360"/>
              <a:ext cx="121932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7" name="Oval 6"/>
            <p:cNvSpPr/>
            <p:nvPr/>
          </p:nvSpPr>
          <p:spPr>
            <a:xfrm>
              <a:off x="4171680" y="49831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Oval 7"/>
            <p:cNvSpPr/>
            <p:nvPr/>
          </p:nvSpPr>
          <p:spPr>
            <a:xfrm>
              <a:off x="4306680" y="511992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Oval 8"/>
            <p:cNvSpPr/>
            <p:nvPr/>
          </p:nvSpPr>
          <p:spPr>
            <a:xfrm>
              <a:off x="4443120" y="52549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Oval 9"/>
            <p:cNvSpPr/>
            <p:nvPr/>
          </p:nvSpPr>
          <p:spPr>
            <a:xfrm>
              <a:off x="4578120" y="539136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Oval 10"/>
            <p:cNvSpPr/>
            <p:nvPr/>
          </p:nvSpPr>
          <p:spPr>
            <a:xfrm>
              <a:off x="4713120" y="5526360"/>
              <a:ext cx="339480" cy="2728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 flipH="1">
              <a:off x="4442760" y="4711680"/>
              <a:ext cx="269640" cy="27144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 flipH="1">
              <a:off x="4578120" y="4711680"/>
              <a:ext cx="134640" cy="407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4713120" y="4711680"/>
              <a:ext cx="0" cy="611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Line 14"/>
            <p:cNvSpPr/>
            <p:nvPr/>
          </p:nvSpPr>
          <p:spPr>
            <a:xfrm>
              <a:off x="4713120" y="4711680"/>
              <a:ext cx="13644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4713120" y="4711680"/>
              <a:ext cx="271440" cy="88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5526000" y="4032360"/>
              <a:ext cx="121932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5594400" y="49831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Oval 18"/>
            <p:cNvSpPr/>
            <p:nvPr/>
          </p:nvSpPr>
          <p:spPr>
            <a:xfrm>
              <a:off x="5729400" y="511992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Oval 19"/>
            <p:cNvSpPr/>
            <p:nvPr/>
          </p:nvSpPr>
          <p:spPr>
            <a:xfrm>
              <a:off x="5865840" y="52549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6000840" y="539136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Oval 21"/>
            <p:cNvSpPr/>
            <p:nvPr/>
          </p:nvSpPr>
          <p:spPr>
            <a:xfrm>
              <a:off x="6135840" y="5526360"/>
              <a:ext cx="339480" cy="2728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Line 22"/>
            <p:cNvSpPr/>
            <p:nvPr/>
          </p:nvSpPr>
          <p:spPr>
            <a:xfrm flipH="1">
              <a:off x="5865480" y="4711680"/>
              <a:ext cx="269640" cy="27144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 flipH="1">
              <a:off x="6000840" y="4711680"/>
              <a:ext cx="134640" cy="407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>
              <a:off x="6135840" y="4711680"/>
              <a:ext cx="0" cy="611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6135840" y="4711680"/>
              <a:ext cx="13644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7" name="Line 26"/>
            <p:cNvSpPr/>
            <p:nvPr/>
          </p:nvSpPr>
          <p:spPr>
            <a:xfrm>
              <a:off x="6135840" y="4711680"/>
              <a:ext cx="271440" cy="88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6881760" y="4032360"/>
              <a:ext cx="1219320" cy="67932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9" name="Oval 28"/>
            <p:cNvSpPr/>
            <p:nvPr/>
          </p:nvSpPr>
          <p:spPr>
            <a:xfrm>
              <a:off x="6950160" y="49831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0" name="Oval 29"/>
            <p:cNvSpPr/>
            <p:nvPr/>
          </p:nvSpPr>
          <p:spPr>
            <a:xfrm>
              <a:off x="7085160" y="511992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1" name="Oval 30"/>
            <p:cNvSpPr/>
            <p:nvPr/>
          </p:nvSpPr>
          <p:spPr>
            <a:xfrm>
              <a:off x="7220160" y="5254920"/>
              <a:ext cx="33948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2" name="Oval 31"/>
            <p:cNvSpPr/>
            <p:nvPr/>
          </p:nvSpPr>
          <p:spPr>
            <a:xfrm>
              <a:off x="7356600" y="5391360"/>
              <a:ext cx="338040" cy="27144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3" name="Oval 32"/>
            <p:cNvSpPr/>
            <p:nvPr/>
          </p:nvSpPr>
          <p:spPr>
            <a:xfrm>
              <a:off x="7491600" y="5526360"/>
              <a:ext cx="338040" cy="272880"/>
            </a:xfrm>
            <a:prstGeom prst="ellipse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4" name="Line 33"/>
            <p:cNvSpPr/>
            <p:nvPr/>
          </p:nvSpPr>
          <p:spPr>
            <a:xfrm flipH="1">
              <a:off x="7220160" y="4711680"/>
              <a:ext cx="271440" cy="27144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5" name="Line 34"/>
            <p:cNvSpPr/>
            <p:nvPr/>
          </p:nvSpPr>
          <p:spPr>
            <a:xfrm flipH="1">
              <a:off x="7356600" y="4711680"/>
              <a:ext cx="134640" cy="407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6" name="Line 35"/>
            <p:cNvSpPr/>
            <p:nvPr/>
          </p:nvSpPr>
          <p:spPr>
            <a:xfrm>
              <a:off x="7491600" y="4711680"/>
              <a:ext cx="0" cy="6112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7" name="Line 36"/>
            <p:cNvSpPr/>
            <p:nvPr/>
          </p:nvSpPr>
          <p:spPr>
            <a:xfrm>
              <a:off x="7491600" y="4711680"/>
              <a:ext cx="13464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8" name="Line 37"/>
            <p:cNvSpPr/>
            <p:nvPr/>
          </p:nvSpPr>
          <p:spPr>
            <a:xfrm>
              <a:off x="7491600" y="4711680"/>
              <a:ext cx="271440" cy="88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Line 38"/>
            <p:cNvSpPr/>
            <p:nvPr/>
          </p:nvSpPr>
          <p:spPr>
            <a:xfrm flipH="1">
              <a:off x="4712760" y="3284280"/>
              <a:ext cx="142236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Line 39"/>
            <p:cNvSpPr/>
            <p:nvPr/>
          </p:nvSpPr>
          <p:spPr>
            <a:xfrm>
              <a:off x="6135840" y="3284280"/>
              <a:ext cx="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Line 40"/>
            <p:cNvSpPr/>
            <p:nvPr/>
          </p:nvSpPr>
          <p:spPr>
            <a:xfrm>
              <a:off x="6135840" y="3284280"/>
              <a:ext cx="1423800" cy="747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Large Team Communication 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ble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large teams, communication is generally through the manager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ngineers on unit teams have no orderly way to communic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m Sol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unit team names 8 role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, process, support, and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interface, design, implementation, and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managers handle issues within their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managers form role-manager teams to communicate across the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SPm Communication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55" name="Group 2"/>
          <p:cNvGrpSpPr/>
          <p:nvPr/>
        </p:nvGrpSpPr>
        <p:grpSpPr>
          <a:xfrm>
            <a:off x="1214640" y="1641600"/>
            <a:ext cx="6837480" cy="4552920"/>
            <a:chOff x="1214640" y="1641600"/>
            <a:chExt cx="6837480" cy="4552920"/>
          </a:xfrm>
        </p:grpSpPr>
        <p:sp>
          <p:nvSpPr>
            <p:cNvPr id="156" name="Rectangle 3"/>
            <p:cNvSpPr/>
            <p:nvPr/>
          </p:nvSpPr>
          <p:spPr>
            <a:xfrm>
              <a:off x="3670200" y="1647720"/>
              <a:ext cx="2133360" cy="74124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Project Management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Leadership Team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7" name="Rectangle 4"/>
            <p:cNvSpPr/>
            <p:nvPr/>
          </p:nvSpPr>
          <p:spPr>
            <a:xfrm>
              <a:off x="2703240" y="3135240"/>
              <a:ext cx="1218960" cy="6807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8" name="Rectangle 5"/>
            <p:cNvSpPr/>
            <p:nvPr/>
          </p:nvSpPr>
          <p:spPr>
            <a:xfrm>
              <a:off x="4125960" y="3135240"/>
              <a:ext cx="1220760" cy="6807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5481720" y="3135240"/>
              <a:ext cx="1218960" cy="680760"/>
            </a:xfrm>
            <a:prstGeom prst="rect">
              <a:avLst/>
            </a:prstGeom>
            <a:solidFill>
              <a:srgbClr val="87abb9"/>
            </a:solidFill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400" spc="-1" strike="noStrike">
                  <a:solidFill>
                    <a:srgbClr val="39536b"/>
                  </a:solidFill>
                  <a:latin typeface="Arial"/>
                </a:rPr>
                <a:t>Team Leader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 flipH="1">
              <a:off x="3312720" y="2389320"/>
              <a:ext cx="1423800" cy="745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1" name="Line 8"/>
            <p:cNvSpPr/>
            <p:nvPr/>
          </p:nvSpPr>
          <p:spPr>
            <a:xfrm>
              <a:off x="4736880" y="2389320"/>
              <a:ext cx="0" cy="745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2" name="Line 9"/>
            <p:cNvSpPr/>
            <p:nvPr/>
          </p:nvSpPr>
          <p:spPr>
            <a:xfrm>
              <a:off x="4736880" y="2389320"/>
              <a:ext cx="1422360" cy="745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>
              <a:off x="3313080" y="3816360"/>
              <a:ext cx="0" cy="23781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2365200" y="408780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5" name="Line 12"/>
            <p:cNvSpPr/>
            <p:nvPr/>
          </p:nvSpPr>
          <p:spPr>
            <a:xfrm>
              <a:off x="2365200" y="435924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6" name="Line 13"/>
            <p:cNvSpPr/>
            <p:nvPr/>
          </p:nvSpPr>
          <p:spPr>
            <a:xfrm>
              <a:off x="2365200" y="463104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7" name="Line 14"/>
            <p:cNvSpPr/>
            <p:nvPr/>
          </p:nvSpPr>
          <p:spPr>
            <a:xfrm>
              <a:off x="2365200" y="490392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365200" y="517536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69" name="Line 16"/>
            <p:cNvSpPr/>
            <p:nvPr/>
          </p:nvSpPr>
          <p:spPr>
            <a:xfrm>
              <a:off x="2365200" y="544680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0" name="Line 17"/>
            <p:cNvSpPr/>
            <p:nvPr/>
          </p:nvSpPr>
          <p:spPr>
            <a:xfrm>
              <a:off x="2365200" y="571824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1" name="Line 18"/>
            <p:cNvSpPr/>
            <p:nvPr/>
          </p:nvSpPr>
          <p:spPr>
            <a:xfrm>
              <a:off x="2365200" y="5991480"/>
              <a:ext cx="399744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2" name="Line 19"/>
            <p:cNvSpPr/>
            <p:nvPr/>
          </p:nvSpPr>
          <p:spPr>
            <a:xfrm>
              <a:off x="4736880" y="3816360"/>
              <a:ext cx="0" cy="23781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6091200" y="3816360"/>
              <a:ext cx="0" cy="23781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6624360" y="3951360"/>
              <a:ext cx="7549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Planning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5" name="Text Box 22"/>
            <p:cNvSpPr/>
            <p:nvPr/>
          </p:nvSpPr>
          <p:spPr>
            <a:xfrm>
              <a:off x="6623280" y="4222800"/>
              <a:ext cx="70740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Process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6" name="Text Box 23"/>
            <p:cNvSpPr/>
            <p:nvPr/>
          </p:nvSpPr>
          <p:spPr>
            <a:xfrm>
              <a:off x="6625800" y="4496040"/>
              <a:ext cx="6998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Support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7" name="Text Box 24"/>
            <p:cNvSpPr/>
            <p:nvPr/>
          </p:nvSpPr>
          <p:spPr>
            <a:xfrm>
              <a:off x="6624360" y="4767480"/>
              <a:ext cx="6404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Quality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8" name="Text Box 25"/>
            <p:cNvSpPr/>
            <p:nvPr/>
          </p:nvSpPr>
          <p:spPr>
            <a:xfrm>
              <a:off x="6609960" y="5038920"/>
              <a:ext cx="14421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Customer Interface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79" name="Text Box 26"/>
            <p:cNvSpPr/>
            <p:nvPr/>
          </p:nvSpPr>
          <p:spPr>
            <a:xfrm>
              <a:off x="6625800" y="5310360"/>
              <a:ext cx="6296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0" name="Text Box 27"/>
            <p:cNvSpPr/>
            <p:nvPr/>
          </p:nvSpPr>
          <p:spPr>
            <a:xfrm>
              <a:off x="6615360" y="5583600"/>
              <a:ext cx="120132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Implementation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1" name="Text Box 28"/>
            <p:cNvSpPr/>
            <p:nvPr/>
          </p:nvSpPr>
          <p:spPr>
            <a:xfrm>
              <a:off x="6628320" y="5855040"/>
              <a:ext cx="45144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Test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2" name="Text Box 29"/>
            <p:cNvSpPr/>
            <p:nvPr/>
          </p:nvSpPr>
          <p:spPr>
            <a:xfrm>
              <a:off x="1214640" y="4562640"/>
              <a:ext cx="1007640" cy="8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he rol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manager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3" name="Text Box 30"/>
            <p:cNvSpPr/>
            <p:nvPr/>
          </p:nvSpPr>
          <p:spPr>
            <a:xfrm>
              <a:off x="1284480" y="2184480"/>
              <a:ext cx="1827720" cy="5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t">
              <a:spAutoFit/>
            </a:bodyPr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he managemen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  <a:p>
              <a:pPr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hierarchy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4" name="Line 31"/>
            <p:cNvSpPr/>
            <p:nvPr/>
          </p:nvSpPr>
          <p:spPr>
            <a:xfrm>
              <a:off x="1687320" y="2863800"/>
              <a:ext cx="0" cy="81576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5" name="Line 32"/>
            <p:cNvSpPr/>
            <p:nvPr/>
          </p:nvSpPr>
          <p:spPr>
            <a:xfrm flipV="1">
              <a:off x="1687320" y="1641600"/>
              <a:ext cx="0" cy="542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6" name="Line 33"/>
            <p:cNvSpPr/>
            <p:nvPr/>
          </p:nvSpPr>
          <p:spPr>
            <a:xfrm>
              <a:off x="1687320" y="5378760"/>
              <a:ext cx="0" cy="6127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87" name="Line 34"/>
            <p:cNvSpPr/>
            <p:nvPr/>
          </p:nvSpPr>
          <p:spPr>
            <a:xfrm flipV="1">
              <a:off x="1687320" y="3951000"/>
              <a:ext cx="0" cy="61092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eam Coordination and Control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bl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 systems require overall control 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s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nd issu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entrally controlling these items can delay the engineers and unit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ol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unit team gives role managers responsibility to coordinate these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manager teams coordinate these issues across the unit teams and with the leadershi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Large-Scale Teamworking Skills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work in a large distributed-team environment, developers must consisten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and track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 their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iver quality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to dynamic 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m meets these needs by using unit teams that each follow the TSP and consistently do qualit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15:06:32Z</dcterms:created>
  <dc:creator>Daniel Burton</dc:creator>
  <dc:description/>
  <cp:keywords/>
  <dc:language>en-US</dc:language>
  <cp:lastModifiedBy>wrn_loc_adm</cp:lastModifiedBy>
  <cp:lastPrinted>2001-07-23T13:49:01Z</cp:lastPrinted>
  <dcterms:modified xsi:type="dcterms:W3CDTF">2018-09-06T00:18:02Z</dcterms:modified>
  <cp:revision>47</cp:revision>
  <dc:subject>24 July 2001 / 3:30pm</dc:subject>
  <dc:title>PowerPoint Presentation</dc:title>
</cp:coreProperties>
</file>